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367-282C-4BA7-9032-87F98CFB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393-4B6B-48D0-8B9D-5124A560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DD9-777A-4CB6-A60C-48A34114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F39-9853-4C86-83EA-AE6FD0D2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1F8-EB1C-4936-81DF-3DF011CF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517-D859-4FF4-8C7D-E6B499C3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A27-D523-4D25-9C4E-FC8D5CB5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568-AB00-40BF-B6AB-8D1D583B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6A1-AFE4-4F2F-924F-3140B447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8A0-89E2-41D2-96B4-CABD297A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243-BDAF-4E25-A433-D941E99E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F06-8A89-49AE-AFF3-1411C46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4C34-6806-4C66-A3DC-77A4726D2F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0000"/>
                </a:solidFill>
                <a:latin typeface="黑体"/>
                <a:ea typeface="黑体"/>
              </a:rPr>
              <a:t>高三生如何进入复习状态 进行有效复习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发展良好的个性，营造积极的人际关系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是社会的人，只有在集体中才能诞生优秀的个体。内向的、缺乏自信心，疏远集体，忽视人际关系沟通的学生遇到困难容易情绪低落，心理疲劳。所以，在日常的学习生活中，要努力做到“胜不骄败不馁”、懂得“失败是成功之母”，培养坚强的意志和坚韧的毅力。形成开朗、自信、热情并乐于助人的良好个性，积极关心和参加集体活动，建立融洽的师生、同学关系，这会增强自己克服困难的信心与勇气，并以高昂的斗志、旺盛的精力和健康的心理去迎接高考的挑战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之，无论是考前还是考中，考生只要以平和的心态来对待，自然会缓解心理压力，稳定情绪，走向成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怎样做到有效复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就算高三的学生辛苦些，一天纯学习时间也不会超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时，上课占去一多半，自己支配的时间不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小时。怎样才能做到高效率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准备一个随身携带的记事本。把每天要进行的复习内容都记在一个本子上，一条条写清楚。比如，今天本子上的记录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复习物理书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，做课后习题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英语完型填空一道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背语文《念奴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赤壁怀古》并默写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学非金属习题一套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生物试卷错题整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学作业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课间感到不太累时就可以不把时间浪费在望着黑板发呆上了，可以拣短时间就能完成的工作来做，当你把本子上的任务条划干净时，很有成就感。如果老师布置了新任务，当然要先完成老师布置的，本子上的自己的工作第二天首先完成，在这个基础上适当加上新计划。提醒大家，计划一定要符合实际，常听同学抱怨说，自己忙了一天也不知道都复习了什么，但有了这个复习计划本，就一目了然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首要任务是看教科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考题约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基础题，基础扎实，考上本科不成问题。夯实基础的首要任务是看教科书。就我个人的经验，物理书要看三遍，第一遍按节细看概念、背下公式，做书后习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部分题一定要拿下，都是基础中的基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遍按章把概念间的逻辑关系找到，找一些中等程度的自测题来做。第三遍是贯穿全书，把全书分为力学、电学、磁学、原子等部分，找一些稍难的题来做。生物书基本上可以当成文科来学，至少看十遍，提到一个知识，你能立刻说出这是哪章哪节的内容，并能指出这章这节最重要的东西是什么。化学书最少要看五遍，其中仔细琢磨每句话三遍，还要再分基本概念和理论、非金属、金属、有机、实验这种大块再翻上两三遍，并把该总结的总结了。因为就学科特点而言，物理逻辑性很强，知识整，教材思路清晰，但考题偏难。生物知识零散，不易灵活出题，所以要像文科一样，该背的背下来，随他考。化学呢，既难又散，各章节都有自己的系统，要背的东西又比较多，就要仔细研读。做到这样看书，你做起理综题飞快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以上没大问题。你可能说“没那么多时间”，但只要你坚持有计划进行，可有充足时间在高三寒假结束时把这些做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每科准备一个错题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你看过书之后，知识掌握已经达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，但还有许多遗漏或者是衔接地方没有掌握清楚，这体现在考试中你做错的或是不会做的题上，因此，我们还有一个重要工作，就是“堵窟窿”。建议每科准备一个错题本，把考试中错的题都摘录下来，反复研究，直到把每个知识点都领悟了。当你把每次考试的错题都弄懂之后，窟窿也就堵得差不多了。考前一个月，不要再做很多新题，只要把以往积累的错题全都彻底搞懂，高考其实也就没什么可怕。夯实基础和补漏工作从现在做起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时听歌、聊天、吃东西是大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课的时候一定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中精力，因为老师在高三课堂上讲的每句知识都是很重要的。如果注意力难以集中，就要适当休息一下，比如伸懒腰，站起来走动等。如果长时间注意力难集中，困倦无力，就要好好睡一觉。我当时每天晚上至少六小时睡眠，十二点到次日六点比较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午午睡十五至二十分钟，保证下午精力充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校安排的体育运动一定要参加，女生跑步、跳绳最便捷有效，羽毛球也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生可适当玩玩篮球、足球，出一身大汗比较好。运动后头脑清醒，有助于集中精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一个即将高考的人，其实我也有像你那样的经历。很迷惘，很无助，不知道怎么办好！其实如果你自己的能力不够的话，即使是上了尖子班也是徒然的。还会让你更加失落。因为尖子班的人都是十分厉害的，就像我的学校，他们好像不用读书就考得很好，那些是天才式的人物。其实只要你找准了自己的位置，知道自己应该是个怎样的人，就不会害怕！高三其实人人都那么苦的，走过了你会知道，不过只要你努力了，你就对得起所有人！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迎接高三，我觉得最重要的是调整好心态，高三不同与我们学习的任何一个阶段，它需要高强度的训练，在高三，最重要是有一个目标，比如说你想考什么大学，不要总是怀缅过去，朝前看！然后要有一个强劲的体魄，高三前阶段没那么紧张，可以用来加强锻炼，这到了后期是一个优势来的！至于学习方面，羡慕那些成绩好的人是正常的，但不要因此而觉得自卑，因为就算是高考状元，出来工作后也未必就比你好！一点要相信自己，相信付出了就会有收获，相信奋斗过就不会后悔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多高三学生，虽然人已经进入高三的班级了，但还没有进入高三的学习状态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案例一：拼命三郎不可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现在学得好累啊，没想到期中考试我排名居然下降了，这是为什么啊？在暑假我就加码学习了，每天晚上战斗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，中午在校的午休时间我都用来学习，周末我还报了辅导班，这几个月来真的是一直在学习，发了几次低烧，我都没有间断，没怎么休息。我基础很好，又投入了巨大的学习精力，成绩应该直线上升啊？怎么会下降呢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专家分析：这位同学很刻苦，但是却走进一种焦虑状态。虽然基础好、投入大，但是不科学地过度用脑使他的身体逐渐吃不消，甚至发起低烧，这种状态持续下去，不仅学习成绩提高不了，身体能支撑继续学习都很困难。他应该立即停止这种疲劳战，先把身体调整好，再有针对性地学习，不要提前进入题海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案例二：做乖学生还不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自从上了高三，我变得乖多了。以前确实比较贪玩，上课走神、下课精神，老师布置的作业草草了事，课余时间也都用来玩了。从这学期开始，我就改头换面做一个听老师话的乖学生了。现在是上课听讲注意力集中，下课不打游戏不上网，完成作业一丝不苟，把老师留的任务都很认真地完成。父母说我现在像个学生的样子了，我也满怀信心。但是以前底子薄，有些问题还是弄不清楚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专家分析：这位学生的学习状态虽然比以往大有改善，但是他只进入一个普通高中生的学习状态：上课听讲、完成作业、跟着老师的进度学习。进入高三后，考生不能再拿乖学生的标准来衡量自己，仅仅完成老师布置的任务也是不够的。他基础差，还有很多漏洞需要补，在课下还需自己加油，变被动跟随老师为主动找老师。不能为了一点学习态度上的转变就沾沾自喜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案例三：课外辅导不必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我承认我自己基础差，到了高三我就开始恶补，妈妈为了让我接受名师指导，给我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校外辅导班，周六下午、周日全天都在外面上课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专家分析：四处上辅导班并不是一种合理的高三状态。在辅导班有可能听到名校老师的讲课，但是，先不说辅导班老师讲的适不适合自己，周末排满了辅导，学生没有一点自己的时间，学得多但消化不了，学习效果并不见得好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案例四：主动复习才对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按照预定计划开始高三复习，以前考得好不代表高考考得好。理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门功课中，我也存在弱项，高三第一轮复习中，我着重补习弱科，同时不放松强项。高三时间特紧，午休时间我也不错过，但是我不是用来做题，而是干抄写一类的不需要动脑子的事情，把精力最好的时间用在攻克难题、纠错题、背单词上。这样，学习效率高了，还能留出专门时间休息、放松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专家分析：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学生中，只有这位学生进入了高三状态，他能做到自觉、主动、自由学习。他一直在努力，积累了丰富的学习经验，到了高三，学习更有策略，时间安排较得当。更重要的是他非常清楚自己的优势与弱项，能有目的地选择练习、辅导书，通过这样的学习，他一定能提高学习成绩，在高考中发挥出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66996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三学生除了上学期还要完成部分新课外，一整学年的主要任务就是总复习。总复习的原则是总结归纳以前所学过的知识，巩固基础知识，并尽可能地提高各科的成绩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终目的是把知识整体化、系统化，并逐步提升综合运用解决各种问题的能力，以便在高考中取得最理想的成绩。从高二升上高三后，很多准高考生都觉得心里没底，认为自己的能力水平距高考的要求还差得很远，那么，高三一年的强化训练到底能够使高三生提高多少呢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如何进入高三状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3400" spc="-1" strike="noStrike">
                <a:solidFill>
                  <a:srgbClr val="ff0066"/>
                </a:solidFill>
                <a:latin typeface="黑体"/>
                <a:ea typeface="黑体"/>
              </a:rPr>
              <a:t>、给自己确立一个目标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月初就会有一次摸底考试，等考试成绩一出来，我们就可以在自己的分数上增加一定分数，然后分析每一科还有多大提高的空间。比如英语可以上十分，数学还可以上十分，语文上五分，其它加起来上三十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3400" spc="-1" strike="noStrike">
                <a:solidFill>
                  <a:srgbClr val="ff0066"/>
                </a:solidFill>
                <a:latin typeface="黑体"/>
                <a:ea typeface="黑体"/>
              </a:rPr>
              <a:t>、对考试结果一定要“放得下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高三，考试一个接一个，考试的结果不停地公示出来。如果太重视考试结果，心理防线就危险了。比如考好了，潜意识里一放松，成绩立刻就往下掉；没考好，心里郁闷，埋怨自己不争气，学习也没精神，下次考试成绩可能更差。对待考试结果一定要“放得下”，重要的是找到致错原因，把不会的弄懂了，然后把细心就能得到的分加上，再把后来弄懂的分数加上，看看这份试卷能得多少分。这样是给自己信心，也是给自己提要求，能得到的分一定不能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zh-CN" sz="3400" spc="-1" strike="noStrike">
                <a:solidFill>
                  <a:srgbClr val="ff0066"/>
                </a:solidFill>
                <a:latin typeface="黑体"/>
                <a:ea typeface="黑体"/>
              </a:rPr>
              <a:t>、多种方式舒缓情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大部分住校，每天回宿舍和室友开开玩笑，好好笑一笑，甚至喊一喊，也许看上去好像不太正常，但是会让你睡觉的时候不那么烦躁。走读的同学回到家里和家长谈谈时事，同时也能积累写议论文的素材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随便聊几句，吃完晚饭的二十分钟看看动画片，但是奉劝不要看电视剧，有些电视剧不但起不到放松的作用，而且还让你的神经更紧张，浪费时间还不利于休息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也可适时对家长提两个要求。一是不要成天唠叨，这对高三学生的心理攻击很大，学习状态只有越来越差；二是尽量鼓励，减少责备。但对于贪玩、不细心，简要指责是应该的，但不要拉上其它琐碎事宜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进入高三，如何缓解心理压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调整期望值，适当减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做任何事情，有适度的压力是好事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学研究表明，适度的压力有助于挖掘个人的潜能，最大限度地发挥自己的水平。压力太小，则动力不足；但压力过大，长期处于高度紧张状态之中，则会产生很多消极的影响。就象一个弹簧，但施压超过弹性限度后，即使撤去外压，弹簧也不会复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要正确认识自己，给自己一个合理的定位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知道自己周围的同学在学习方面能“如鱼得水”的毕竟只是少数，大多数同学在学习上还是会碰碰磕磕，也常常会产生技不如人之感。因此，你要有平和的心态。有了心态方面的准备，再根据自己的实际情况，制定适当的目标。你可以根据平时的检测情况，衡量一下自己目前的情况与高考的差距，如自己在班级或年级所占的位置或自己某些知识块薄弱，从而决定你在考前黄金时间复习的侧重点、方法等，然后制定出达到目标的详细计划，如分几个阶段来实现、怎样实现、应注意哪些问题等。在学习过程中一定不能有一刻迷失目标，绝不能因一时的挫折而心烦、焦虑、急燥产生过大的压力，也不能因为复习内容的增加、难度的加大而放弃自己原先追求的目标，做一个“撞钟的和尚”，要是保持平稳的心态，尽自己的努力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强化成功体验，增强自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76320" y="6854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消除苦闷自卑的心理，增强自信心，可以从以下三方面去做：一是找老师或要好的同学，请他们帮助分析一下自己过去和现在的状况，记住他们对自己肯定和鼓励的话，要把它当作自己前进的动力。即使学习基础较差，接连考试成绩都不理想，也不应自卑，而应赶快找原因，改变方法，调整期望值。二是要学会积极的自我暗示，每天复习后，可以回想自己一天的收获，对自己一点一滴的收获进行自我肯定。考试之前，要多想有把握考好的条件，让好的成功的情景浮现在自己的脑海中，坚信自己平时学得扎实，复习方法对头，一定能考好。通过回想自己过去学习、考试中的成功情景，进行意识强化，并追溯这些成功的前提和原因，以供现在复习活动所借鉴。积极的暗示会带来意想不到的正强化的结果。三是要善于发现自己微小的进步，如这次考试成绩比上次考试多了几分、某个问题因为仔细审题做对了而多得了几分等，用不断取得的小成绩来激励自己，要学会发现自己的长处，哪怕是细微的进步，都是肯定，以增强学习信心。相信经过一段时间的强化，你无论是在心理、还是在生理方面都会看到变化。坚持下去，经常保持旺盛的斗志，将使自己充满信心，不惧怕任何困难，高考时，你必然会取得明显的效果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正确对待模拟考试，不以模拟战绩论英雄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拟考试成绩虽然对考生预测高考有一定的参考价值，但不能以此论英雄，更不能因此断定高考的成败。如果仅仅把目光放在模拟考试成绩上，对即将到来的正式高考就很不利。况且考试分数的高低受多种因素的影响，如命题动机、内容侧重、试题总量和难度、教师的教学及自己的复习程度等。另外，模拟考试分数高也不能盲目乐观，因为成功时受到的压力有时并不比失败时轻多少。所以，最好是把考试作为仅是一次对知识掌握程度的检验，而不是一考定“终生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主题班会课件(分28大类): http://shop62905894.taobao.com</cp:keywords>
  <dc:language>en-US</dc:language>
  <cp:lastModifiedBy>User</cp:lastModifiedBy>
  <dcterms:modified xsi:type="dcterms:W3CDTF">2013-04-13T14:40:01Z</dcterms:modified>
  <cp:revision>17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